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0476-9A30-4C4C-AD34-DA8480FE4204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44E53-C78B-4CE6-B452-065B28E0AA87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23607C-EAD6-4FA2-A1C5-5F34A89E361C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60EC6FE0-046E-4A0B-AE8E-DE35B3EDBE4B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A114-D354-4534-A07B-A20C1613F6D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02EE2-5519-413C-9AC6-ABB4B5D34F71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BF262785-194F-47C2-94A0-B721BE051AC1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91F35-8983-4839-A3A2-24EEFAEFBB7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5B6A33-40DE-4AFA-B884-701D5B40738A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5A29D1C2-7971-4262-AD98-F967BB67036B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C010E-8D84-464F-A2A7-6F01F8884219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038B99-8861-4596-B629-D51914BD7D4D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899A20A3-2201-4F79-98E1-82A19174EE1F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1DD6-6666-4F0A-85C7-D14D33DDC18A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11AE8E-1BE8-4EBA-AA0B-74E6BB3F4CE0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99F056A6-E695-4978-9B15-074FAC406E03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3D3CF-C64A-4491-80D6-927026AEEE3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E7E135-8034-4E3E-A592-72AEE09B5B62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9E667D49-489F-4030-8CCD-C8B006D9AFB0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3E8-3C51-4F0C-AFCB-4F4216BA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A3D-7969-4716-8D4D-0DD6C52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3B0-9595-415B-B21E-18A9EA2D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A0F-1800-4B24-AE1E-891803EC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C645-9081-44D3-A419-7F4731B1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CFB-68F7-443F-AAF0-FA6BDA7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CCBD-59C7-4873-97A3-B286F367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80A7-440D-4787-84A5-77C4EEB2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A439-702F-491D-AE77-FEB33FF2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10F-8063-4F37-B649-C1E9B7AC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A54E-DCC7-4619-B5FB-2B1CC54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BEE-00FC-4174-A8F3-0F32245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5351-2123-49BE-B713-4384843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11A9-BDA1-4818-AF82-BCDD8CD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58FA-E66F-4A37-99E2-90BEC9B5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9AF-2497-418F-9396-9440D13F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44B8-E8C8-4581-826D-FC62D773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F4F-E400-41DE-B025-74E5E011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A01-406C-419B-A850-EE26D510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63E-1CC7-4C01-AB72-5D1B198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647-2BBC-4845-967B-7344097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CFB-70B0-40E2-97BE-03370D1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BC1-2E6C-4FFA-8FCF-8A109A9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344-3177-43B8-AE22-09A931F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800" spc="-1" strike="noStrike">
                <a:solidFill>
                  <a:srgbClr val="8b8b8b"/>
                </a:solidFill>
                <a:latin typeface="Calibri"/>
              </a:rPr>
              <a:t>Faça clique para editar o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92CF09-6AE1-44DA-9B55-CB506F413A7D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9B8327A6-75DC-4022-91EA-790B682BDE08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5360" indent="-31536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P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7270A3-C59F-4E5F-9FA8-75FF2391C503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17093E7D-A85D-461D-A11C-4B9EB82FBF59}" type="slidenum">
              <a:rPr b="0" lang="pt-P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Marcador de Posição da Data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019240" cy="2019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28760" y="285840"/>
            <a:ext cx="82152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c000"/>
                </a:solidFill>
                <a:latin typeface="Arial"/>
                <a:ea typeface="Arial"/>
              </a:rPr>
              <a:t>Universidade de Trás-os-Montes e Alto Do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Arial"/>
              </a:rPr>
              <a:t>Desenvolvimento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Arial"/>
              </a:rPr>
              <a:t>Estud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Trabalho realiz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Cé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Dan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Fil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Jo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Lu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imes New Roman"/>
              </a:rPr>
              <a:t>Vila Real, Ab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946920" y="928800"/>
            <a:ext cx="1339920" cy="111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1428840" y="242892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816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Grupo PORTUCEL/SOPORCEL:</a:t>
            </a: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Elaboração e Execução de Planos de Fogo Contro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Formaç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816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Floresta Atlântica – SGFII, S.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Avaliação do perigo de incêndio e do potencial de defesa contra incên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cartografia de perigo de Incên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816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Centro de Emprego e Formação Profissional de Coim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Formação de Sapadores em Defesa da Floresta Contra Incênd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Università di Napoli Frederico II /  Parco Nazionale del Cilento e Vallo di Diano – Itá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onsultoria e formação de técnicos no uso da técnica do fogo contro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rupo TRAGSA – Espan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ooperação e intercâmbio entre equipas de técnicos especialistas na análise de incênd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AUF – Grupo de Análise e Uso do Fogo</a:t>
            </a:r>
            <a:br>
              <a:rPr sz="3200"/>
            </a:b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Missã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2214720"/>
            <a:ext cx="82296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Garantir apoio técnico à Autoridade Nacional de Protecção Civil (ANPC), em incêndios florestais nas fases de ataque ampliado e em apoio à gestão do fo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GAUF – Grupo de Análise e Uso do Fogo</a:t>
            </a:r>
            <a:br>
              <a:rPr sz="3200"/>
            </a:b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Objec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ar o Comandante de Operações e Socorro (COS) na identificação de pontos críticos, de oportunidades de intervenção e no delineamento das estratégias de supressão de incêndios flores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Planear e executar operações de fogo de su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o na definição, coordenação e execução de outras técnicas de su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68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alibri"/>
              </a:rPr>
              <a:t>Apoio à decisão na gestão do fog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4400" spc="-1" strike="noStrike">
                <a:solidFill>
                  <a:srgbClr val="009900"/>
                </a:solidFill>
                <a:latin typeface="Calibri"/>
              </a:rPr>
              <a:t>Intervenções GAUF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1197000"/>
          <a:ext cx="8686800" cy="5180040"/>
        </p:xfrm>
        <a:graphic>
          <a:graphicData uri="http://schemas.openxmlformats.org/drawingml/2006/table">
            <a:tbl>
              <a:tblPr/>
              <a:tblGrid>
                <a:gridCol w="1571760"/>
                <a:gridCol w="1224000"/>
                <a:gridCol w="639720"/>
                <a:gridCol w="598320"/>
                <a:gridCol w="584280"/>
                <a:gridCol w="566640"/>
                <a:gridCol w="554040"/>
                <a:gridCol w="625680"/>
                <a:gridCol w="555480"/>
                <a:gridCol w="614520"/>
                <a:gridCol w="1152360"/>
              </a:tblGrid>
              <a:tr h="3060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ISTRI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ÊS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ISTRI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JU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J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O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vei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ej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ag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raganç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oimb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u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or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etú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ana do Caste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la R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Vise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P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8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1600" spc="-1" strike="noStrike">
                <a:solidFill>
                  <a:srgbClr val="009900"/>
                </a:solidFill>
                <a:latin typeface="Calibri"/>
              </a:rPr>
              <a:t>DISTRIBUIÇÃO ESPACIAL DAS INTERVENÇÕES POR DISTRITO*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6453000"/>
            <a:ext cx="822816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Calibri"/>
              </a:rPr>
              <a:t>(*) – Período de 2009-06-01 a 2009-10-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5327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Calibri"/>
              </a:rPr>
              <a:t>Fogo controlado, área tratada pelos GAU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8160" cy="4524480"/>
        </p:xfrm>
        <a:graphic>
          <a:graphicData uri="http://schemas.openxmlformats.org/drawingml/2006/table"/>
        </a:graphic>
      </p:graphicFrame>
      <p:pic>
        <p:nvPicPr>
          <p:cNvPr id="139" name="Picture 115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850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5360" y="2362320"/>
            <a:ext cx="8694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000" spc="-1" strike="noStrike">
                <a:solidFill>
                  <a:srgbClr val="009900"/>
                </a:solidFill>
                <a:latin typeface="Calibri"/>
              </a:rPr>
              <a:t>A importância da GIFF no desenvolvimento r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080" y="1557360"/>
            <a:ext cx="9097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549360"/>
            <a:ext cx="82296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urge em  04/11/2008 e iniciou a actividade em 12/11/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 um capital social de 75000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 sede em Vila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o ano de 2009 teve um volume de negócios de 1.721.247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12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mprega actualmente 36 técnicos sup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81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Apoio as populações na queima de sobrantes florestais e agrícol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Criação de zonas de pastag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Protecção de bens florestais através do fogo controlado no Inverno ou combate aos incêndios florestais no Ver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Problemas a resol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Pouca divulgação dos serviços prestados junto da popul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Burocracia complexa e inacessível a parte da popula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Problemas na comunicação entre as varias entidades envolvidas no combate aos incêndios floresta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600" spc="-1" strike="noStrike">
                <a:solidFill>
                  <a:srgbClr val="009900"/>
                </a:solidFill>
                <a:latin typeface="Calibri"/>
              </a:rPr>
              <a:t>Má divulgação pelos med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Os dados recolhidos estão sob investigação das autoridades policiais, PJ e GNR, ou da PSP se os fogos ocorrerem na área da sua competência territorial, mas também o Grupo de Análise e Uso de Fogo poderá ser empenhado.” </a:t>
            </a:r>
            <a:r>
              <a:rPr b="1" lang="pt-PT" sz="3200" spc="-1" strike="noStrike">
                <a:solidFill>
                  <a:srgbClr val="ffffff"/>
                </a:solidFill>
                <a:latin typeface="Calibri"/>
              </a:rPr>
              <a:t>in Jornal de Noticias 2009-08-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6000" spc="-1" strike="noStrike">
                <a:solidFill>
                  <a:srgbClr val="ffffff"/>
                </a:solidFill>
                <a:latin typeface="Calibri"/>
              </a:rPr>
              <a:t>FI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GIFF – Gestão Integrada de Fogos Florestais</a:t>
            </a:r>
            <a:br>
              <a:rPr sz="3200"/>
            </a:br>
            <a:r>
              <a:rPr b="1" lang="pt-PT" sz="3200" spc="-1" strike="noStrike">
                <a:solidFill>
                  <a:srgbClr val="009900"/>
                </a:solidFill>
                <a:latin typeface="Calibri"/>
              </a:rPr>
              <a:t>Objec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A actividade comercial da sociedade esta vocacionada para a prestação de serviços de consultadoria e operacionalidade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venção, combate e gestão de fogo floresta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elaboração de projectos, estudos e emissão de pareceres técnicos sobre as causas e consequências do fog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desenvolvimento e implementação de sistemas de informação geográficos nas áreas relacionadas com a prevenção e o combate a incêndios florest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P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79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desenvolvimento e comercialização de sistemas, ferramentas e equipamentos relacionados com a prevenção e combate a incêndios florestai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4400" spc="-1" strike="noStrike">
                <a:solidFill>
                  <a:srgbClr val="009900"/>
                </a:solidFill>
                <a:latin typeface="Calibri"/>
              </a:rPr>
              <a:t>Principais cl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8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009900"/>
                </a:solidFill>
                <a:latin typeface="Calibri"/>
              </a:rPr>
              <a:t>Autoridade Florestal Nacion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Elaboração de Planos de Gestão Estratégica de Combustíve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Elaboração e Execução de Planos de Fogo Control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Delimitação da Rede Primária de Faixas de Gestão de Combustí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Grupo de Analise e Uso do Fogo (GAU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Grupo de Especialistas de Fogo Controlado (GEFO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Marcador de Posição da Data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5-05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816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Monitorização Aérea Florestal (M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Gestão de Informação da Defesa da Flor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Prevenção Estrutural da Floresta na Área de Prevenção e Controlo de Incêndios Florest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Calibri"/>
              </a:rPr>
              <a:t>Fitossanidade Flores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0-05-17T09:03:08Z</dcterms:modified>
  <cp:revision>5</cp:revision>
  <dc:subject/>
  <dc:title>Diapositivo 1</dc:title>
</cp:coreProperties>
</file>